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FF73-4590-4C20-A30F-E7853D113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2108-E50C-4F3E-BB97-74E8512CC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5697-0576-4D0A-A248-709E355A6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E352-EBF6-4B50-BC4C-4519B93DF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D797-0E4D-4951-AA47-4D970B7AC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F756-99DD-4F77-B607-0F3DEDA8E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BED5-4973-470E-9F7F-74254BCFE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782B-6C2A-4BE2-862E-A77E4672A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FA4E-53BE-430B-88C6-223A3B5B8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2414-EC15-40D7-9E8C-9D9F6BC7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82D9-7345-4717-A017-FBDEBF22C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6C6A-C8BF-4745-8FAA-A4D30083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496F1-6198-41F6-B3A9-D8073DF4A2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911160" y="898560"/>
            <a:ext cx="763272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十一章 三角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1.1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与三角形有关的线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11.1.1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三角形的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mg3"/>
          <p:cNvPicPr/>
          <p:nvPr/>
        </p:nvPicPr>
        <p:blipFill>
          <a:blip r:embed="rId1"/>
          <a:stretch/>
        </p:blipFill>
        <p:spPr>
          <a:xfrm>
            <a:off x="4381560" y="3506760"/>
            <a:ext cx="3917880" cy="25718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6"/>
          <p:cNvPicPr/>
          <p:nvPr/>
        </p:nvPicPr>
        <p:blipFill>
          <a:blip r:embed="rId2"/>
          <a:stretch/>
        </p:blipFill>
        <p:spPr>
          <a:xfrm>
            <a:off x="7023240" y="-60480"/>
            <a:ext cx="2146320" cy="57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468360" y="466344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中宋"/>
              </a:rPr>
              <a:t>思考：三角形的三边有没有什么特殊的关系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3"/>
          <p:cNvGrpSpPr/>
          <p:nvPr/>
        </p:nvGrpSpPr>
        <p:grpSpPr>
          <a:xfrm>
            <a:off x="2125800" y="549360"/>
            <a:ext cx="4011480" cy="3555360"/>
            <a:chOff x="2125800" y="549360"/>
            <a:chExt cx="4011480" cy="3555360"/>
          </a:xfrm>
        </p:grpSpPr>
        <p:sp>
          <p:nvSpPr>
            <p:cNvPr id="231" name="Line 4"/>
            <p:cNvSpPr/>
            <p:nvPr/>
          </p:nvSpPr>
          <p:spPr>
            <a:xfrm flipH="1">
              <a:off x="2484720" y="981000"/>
              <a:ext cx="790560" cy="2159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5"/>
            <p:cNvSpPr/>
            <p:nvPr/>
          </p:nvSpPr>
          <p:spPr>
            <a:xfrm>
              <a:off x="3276360" y="981000"/>
              <a:ext cx="2376720" cy="2806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6"/>
            <p:cNvSpPr/>
            <p:nvPr/>
          </p:nvSpPr>
          <p:spPr>
            <a:xfrm flipH="1" flipV="1">
              <a:off x="2484720" y="3140280"/>
              <a:ext cx="3168720" cy="647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7"/>
            <p:cNvSpPr/>
            <p:nvPr/>
          </p:nvSpPr>
          <p:spPr>
            <a:xfrm>
              <a:off x="2125800" y="29948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8"/>
            <p:cNvSpPr/>
            <p:nvPr/>
          </p:nvSpPr>
          <p:spPr>
            <a:xfrm>
              <a:off x="3134160" y="5493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9"/>
            <p:cNvSpPr/>
            <p:nvPr/>
          </p:nvSpPr>
          <p:spPr>
            <a:xfrm>
              <a:off x="5724720" y="3645000"/>
              <a:ext cx="41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84360" y="3949560"/>
            <a:ext cx="3240000" cy="19432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790560" y="3086280"/>
            <a:ext cx="888840" cy="92376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1692360" y="330192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572000" y="3301920"/>
            <a:ext cx="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4880" y="2870280"/>
            <a:ext cx="6069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教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187280" y="517536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草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24000" y="836640"/>
            <a:ext cx="86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学校球场与教室之间隔着一块草坪， 有些同学不走校道而直接穿越草坪，时间久了，就会走出一条小路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他们这样走对吗？如果不对，为什么还这样走？你能用学过的知识解释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92360" y="3301920"/>
            <a:ext cx="2879640" cy="647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24360" y="3949560"/>
            <a:ext cx="647640" cy="19447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924360" y="5678640"/>
            <a:ext cx="720720" cy="59364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2987640" y="616572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球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484360" y="3230640"/>
            <a:ext cx="23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校     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未知"/>
          <p:cNvSpPr/>
          <p:nvPr/>
        </p:nvSpPr>
        <p:spPr>
          <a:xfrm>
            <a:off x="1187280" y="3949560"/>
            <a:ext cx="2737080" cy="1944720"/>
          </a:xfrm>
          <a:custGeom>
            <a:avLst/>
            <a:gdLst/>
            <a:ahLst/>
            <a:rect l="l" t="t" r="r" b="b"/>
            <a:pathLst>
              <a:path w="1633" h="1270">
                <a:moveTo>
                  <a:pt x="1451" y="1270"/>
                </a:moveTo>
                <a:lnTo>
                  <a:pt x="0" y="0"/>
                </a:lnTo>
                <a:lnTo>
                  <a:pt x="227" y="0"/>
                </a:lnTo>
                <a:lnTo>
                  <a:pt x="1633" y="1270"/>
                </a:lnTo>
                <a:lnTo>
                  <a:pt x="1451" y="127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1258560" y="3806640"/>
            <a:ext cx="2808360" cy="2376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58920" y="3807000"/>
            <a:ext cx="28814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140360" y="3807000"/>
            <a:ext cx="0" cy="24476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973440" y="3591000"/>
            <a:ext cx="3818520" cy="3079800"/>
            <a:chOff x="973440" y="3591000"/>
            <a:chExt cx="3818520" cy="3079800"/>
          </a:xfrm>
        </p:grpSpPr>
        <p:sp>
          <p:nvSpPr>
            <p:cNvPr id="254" name=""/>
            <p:cNvSpPr/>
            <p:nvPr/>
          </p:nvSpPr>
          <p:spPr>
            <a:xfrm>
              <a:off x="4245480" y="3591000"/>
              <a:ext cx="54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973440" y="3878280"/>
              <a:ext cx="54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390840" y="5967360"/>
              <a:ext cx="54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5292720" y="2852640"/>
            <a:ext cx="4105440" cy="2422440"/>
            <a:chOff x="5292720" y="2852640"/>
            <a:chExt cx="4105440" cy="2422440"/>
          </a:xfrm>
        </p:grpSpPr>
        <p:sp>
          <p:nvSpPr>
            <p:cNvPr id="258" name=""/>
            <p:cNvSpPr/>
            <p:nvPr/>
          </p:nvSpPr>
          <p:spPr>
            <a:xfrm>
              <a:off x="5292720" y="3644640"/>
              <a:ext cx="4105440" cy="16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AB+BC</a:t>
              </a:r>
              <a:r>
                <a:rPr b="1" lang="en-US" sz="4000" spc="-1" strike="noStrike" u="sng">
                  <a:solidFill>
                    <a:srgbClr val="000000"/>
                  </a:solidFill>
                  <a:uFillTx/>
                  <a:latin typeface="黑体"/>
                  <a:ea typeface="黑体"/>
                </a:rPr>
                <a:t>     </a:t>
              </a:r>
              <a:r>
                <a:rPr b="1" lang="en-US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AC</a:t>
              </a:r>
              <a:r>
                <a:rPr b="1" lang="en-US" sz="40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AC+AB</a:t>
              </a:r>
              <a:r>
                <a:rPr b="1" lang="en-US" sz="4000" spc="-1" strike="noStrike" u="sng">
                  <a:solidFill>
                    <a:srgbClr val="000000"/>
                  </a:solidFill>
                  <a:uFillTx/>
                  <a:latin typeface="黑体"/>
                  <a:ea typeface="黑体"/>
                </a:rPr>
                <a:t>     </a:t>
              </a:r>
              <a:r>
                <a:rPr b="1" lang="en-US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B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292720" y="2852640"/>
              <a:ext cx="3927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BC+AC</a:t>
              </a:r>
              <a:r>
                <a:rPr b="1" lang="en-US" sz="4000" spc="-1" strike="noStrike" u="sng">
                  <a:solidFill>
                    <a:srgbClr val="000000"/>
                  </a:solidFill>
                  <a:uFillTx/>
                  <a:latin typeface="黑体"/>
                  <a:ea typeface="黑体"/>
                </a:rPr>
                <a:t>     </a:t>
              </a:r>
              <a:r>
                <a:rPr b="1" lang="en-US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A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657360" y="139680"/>
            <a:ext cx="112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8.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探一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31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5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9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500"/>
                            </p:stCondLst>
                            <p:childTnLst>
                              <p:par>
                                <p:cTn id="14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"/>
          <p:cNvGrpSpPr/>
          <p:nvPr/>
        </p:nvGrpSpPr>
        <p:grpSpPr>
          <a:xfrm>
            <a:off x="2666880" y="228600"/>
            <a:ext cx="3886200" cy="1311120"/>
            <a:chOff x="2666880" y="228600"/>
            <a:chExt cx="3886200" cy="1311120"/>
          </a:xfrm>
        </p:grpSpPr>
        <p:sp>
          <p:nvSpPr>
            <p:cNvPr id="262" name=""/>
            <p:cNvSpPr/>
            <p:nvPr/>
          </p:nvSpPr>
          <p:spPr>
            <a:xfrm>
              <a:off x="2666880" y="228600"/>
              <a:ext cx="1447920" cy="13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165480" y="838080"/>
              <a:ext cx="33876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250920" y="3933720"/>
            <a:ext cx="190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结论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340000" y="5589720"/>
            <a:ext cx="716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0000"/>
                </a:solidFill>
                <a:uFillTx/>
                <a:latin typeface="Tahoma"/>
              </a:rPr>
              <a:t>两点之间，线段最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050920" y="386064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ff0000"/>
                </a:solidFill>
                <a:uFillTx/>
                <a:latin typeface="Tahoma"/>
              </a:rPr>
              <a:t>三角形任意两边之和大于第三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50920" y="5516640"/>
            <a:ext cx="190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理由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547640" y="0"/>
            <a:ext cx="511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三角形的三边关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 flipV="1">
            <a:off x="3059280" y="1268280"/>
            <a:ext cx="2808000" cy="237672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059280" y="1268280"/>
            <a:ext cx="28810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940360" y="1268280"/>
            <a:ext cx="0" cy="2448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2773800" y="1052640"/>
            <a:ext cx="3859560" cy="3079800"/>
            <a:chOff x="2773800" y="1052640"/>
            <a:chExt cx="3859560" cy="3079800"/>
          </a:xfrm>
        </p:grpSpPr>
        <p:sp>
          <p:nvSpPr>
            <p:cNvPr id="273" name=""/>
            <p:cNvSpPr/>
            <p:nvPr/>
          </p:nvSpPr>
          <p:spPr>
            <a:xfrm>
              <a:off x="6086880" y="1052640"/>
              <a:ext cx="54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73800" y="1339920"/>
              <a:ext cx="54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221800" y="3429000"/>
              <a:ext cx="54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"/>
          <p:cNvGrpSpPr/>
          <p:nvPr/>
        </p:nvGrpSpPr>
        <p:grpSpPr>
          <a:xfrm>
            <a:off x="-179280" y="4425840"/>
            <a:ext cx="7236360" cy="1667880"/>
            <a:chOff x="-179280" y="4425840"/>
            <a:chExt cx="7236360" cy="1667880"/>
          </a:xfrm>
        </p:grpSpPr>
        <p:sp>
          <p:nvSpPr>
            <p:cNvPr id="277" name=""/>
            <p:cNvSpPr/>
            <p:nvPr/>
          </p:nvSpPr>
          <p:spPr>
            <a:xfrm>
              <a:off x="1969200" y="5146560"/>
              <a:ext cx="5087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）上 面的三组小棒中， ②和 ③不能组成三角形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能不能互换一根小棒，使两组小棒都能组成三角形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-179280" y="4425840"/>
              <a:ext cx="3021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Arial"/>
                  <a:ea typeface="黑体"/>
                </a:rPr>
                <a:t>9.</a:t>
              </a:r>
              <a:r>
                <a:rPr b="1" lang="zh-CN" sz="3600" spc="-1" strike="noStrike">
                  <a:solidFill>
                    <a:srgbClr val="0000ff"/>
                  </a:solidFill>
                  <a:latin typeface="Arial"/>
                  <a:ea typeface="黑体"/>
                </a:rPr>
                <a:t>练一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287280" y="2852640"/>
            <a:ext cx="8532720" cy="1368360"/>
            <a:chOff x="287280" y="2852640"/>
            <a:chExt cx="8532720" cy="1368360"/>
          </a:xfrm>
        </p:grpSpPr>
        <p:sp>
          <p:nvSpPr>
            <p:cNvPr id="280" name=""/>
            <p:cNvSpPr/>
            <p:nvPr/>
          </p:nvSpPr>
          <p:spPr>
            <a:xfrm>
              <a:off x="367200" y="2995560"/>
              <a:ext cx="8452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    </a:t>
              </a:r>
              <a:r>
                <a:rPr b="1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只要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满足</a:t>
              </a:r>
              <a:r>
                <a:rPr b="1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较小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的两条线段之和</a:t>
              </a:r>
              <a:r>
                <a:rPr b="1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大于最长线段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便可构成三角形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;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若不满足，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则不能构成三角形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87280" y="2852640"/>
              <a:ext cx="8532720" cy="1368360"/>
            </a:xfrm>
            <a:prstGeom prst="rect">
              <a:avLst/>
            </a:prstGeom>
            <a:noFill/>
            <a:ln w="114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5724360" y="321300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042920" y="981000"/>
            <a:ext cx="691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三组小棒的长度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①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3cm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7cm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0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②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6cm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4cm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8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③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5cm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9cm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6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961640" y="332640"/>
            <a:ext cx="560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思考：这三组小棒为什么有的能摆成三角形，有的不能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5796000" y="765000"/>
            <a:ext cx="3132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姚明说：“我一步能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米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相信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0" y="-673200"/>
            <a:ext cx="5789520" cy="781848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2305080" y="5862600"/>
            <a:ext cx="137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724360" y="3068640"/>
            <a:ext cx="313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注：姚明的腿长为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.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米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395280" y="1557360"/>
            <a:ext cx="828036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已知一个等腰三角形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若它的底边长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cm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腰长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cm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则它的周长为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若它的一边长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cm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一边长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cm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则它的周长为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若它的一边长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cm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一边长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cm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则它的周长为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1835280" y="189000"/>
            <a:ext cx="4535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三、拓展应用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39680" y="2155680"/>
            <a:ext cx="84646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解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情况一：长为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cm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边是腰时，设底为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x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5598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又因为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+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＜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所以不能围成腰长为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cm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等腰三角形。由以上讨论可知，三边长分别为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cm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cm,7cm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2916360" y="2519280"/>
            <a:ext cx="2950920" cy="62712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4284720" y="3117960"/>
            <a:ext cx="1655640" cy="69516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890640" y="4933800"/>
            <a:ext cx="7920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解得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3809880"/>
            <a:ext cx="8748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情况二：长为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cm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边是底时，设腰为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x 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3"/>
          <a:stretch/>
        </p:blipFill>
        <p:spPr>
          <a:xfrm>
            <a:off x="3059280" y="4292640"/>
            <a:ext cx="2304720" cy="58716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1042920" y="3382920"/>
            <a:ext cx="7920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解得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4"/>
          <a:stretch/>
        </p:blipFill>
        <p:spPr>
          <a:xfrm>
            <a:off x="4067280" y="4869000"/>
            <a:ext cx="1100160" cy="55080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250920" y="476280"/>
            <a:ext cx="9144000" cy="38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变式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一根长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厘米的细铁丝围成一个等腰三角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果腰长是底边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倍，那么各边的长是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如果有一边的长为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cm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，那么各边的长是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179280" y="4352040"/>
            <a:ext cx="8785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现有两根木棒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它们的长度分别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cm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不改变木棒的长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要钉成一个三角形木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应在下列四根木棒中选取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10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木棒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20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木棒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50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木棒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60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木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2771640" y="189000"/>
            <a:ext cx="4033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四、达标检测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303" name=""/>
          <p:cNvSpPr/>
          <p:nvPr/>
        </p:nvSpPr>
        <p:spPr>
          <a:xfrm>
            <a:off x="5056200" y="122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95280" y="1052640"/>
            <a:ext cx="914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下列说法中，正确的有（      ）个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     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      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      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三角形可分为等腰三角形、钝角三角形、不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边三角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三角形可分为等边三角形和不等边三角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三角形可分为等腰三角形和不等边三角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等边三角形是特殊的等腰三角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14200" y="620640"/>
            <a:ext cx="248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、选择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250920" y="5373720"/>
            <a:ext cx="88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个等腰三角形的周长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c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若它的一条边长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c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求它的另两条边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24000" y="981000"/>
            <a:ext cx="88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</a:t>
            </a:r>
            <a:r>
              <a:rPr b="1" lang="en-US" sz="2800" spc="-1" strike="noStrike">
                <a:solidFill>
                  <a:srgbClr val="030305"/>
                </a:solidFill>
                <a:latin typeface="Arial"/>
              </a:rPr>
              <a:t>9, 8, 5, 3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四根彩色线形木条，要摆出一个三角形，有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种摆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16000" y="3284640"/>
            <a:ext cx="867708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个三角形有两条边相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已知其中一边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c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另一边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9c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则这个三角形的周长是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95280" y="26028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二、填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61800" y="4724280"/>
            <a:ext cx="262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三、解答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50920" y="2276640"/>
            <a:ext cx="85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个等腰三角形的周长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果它的三边长都是整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那么它的各边长分别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"/>
          <p:cNvGrpSpPr/>
          <p:nvPr/>
        </p:nvGrpSpPr>
        <p:grpSpPr>
          <a:xfrm>
            <a:off x="395280" y="620640"/>
            <a:ext cx="2518560" cy="4392360"/>
            <a:chOff x="395280" y="620640"/>
            <a:chExt cx="2518560" cy="4392360"/>
          </a:xfrm>
        </p:grpSpPr>
        <p:grpSp>
          <p:nvGrpSpPr>
            <p:cNvPr id="313" name=""/>
            <p:cNvGrpSpPr/>
            <p:nvPr/>
          </p:nvGrpSpPr>
          <p:grpSpPr>
            <a:xfrm>
              <a:off x="395280" y="620640"/>
              <a:ext cx="2100240" cy="495000"/>
              <a:chOff x="395280" y="620640"/>
              <a:chExt cx="2100240" cy="495000"/>
            </a:xfrm>
          </p:grpSpPr>
          <p:sp>
            <p:nvSpPr>
              <p:cNvPr id="314" name=""/>
              <p:cNvSpPr/>
              <p:nvPr/>
            </p:nvSpPr>
            <p:spPr>
              <a:xfrm>
                <a:off x="395280" y="620640"/>
                <a:ext cx="2100240" cy="495000"/>
              </a:xfrm>
              <a:prstGeom prst="ellipse">
                <a:avLst/>
              </a:prstGeom>
              <a:solidFill>
                <a:srgbClr val="037f3e"/>
              </a:solidFill>
              <a:ln w="9360">
                <a:solidFill>
                  <a:srgbClr val="037f3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78440" y="692280"/>
                <a:ext cx="201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6fd99"/>
                    </a:solidFill>
                    <a:latin typeface="Arial"/>
                  </a:rPr>
                  <a:t>三角形的概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395280" y="1683000"/>
              <a:ext cx="2266920" cy="424440"/>
              <a:chOff x="395280" y="1683000"/>
              <a:chExt cx="2266920" cy="424440"/>
            </a:xfrm>
          </p:grpSpPr>
          <p:sp>
            <p:nvSpPr>
              <p:cNvPr id="317" name=""/>
              <p:cNvSpPr/>
              <p:nvPr/>
            </p:nvSpPr>
            <p:spPr>
              <a:xfrm>
                <a:off x="395280" y="1683000"/>
                <a:ext cx="2100240" cy="424440"/>
              </a:xfrm>
              <a:prstGeom prst="ellipse">
                <a:avLst/>
              </a:prstGeom>
              <a:solidFill>
                <a:srgbClr val="037f3e"/>
              </a:solidFill>
              <a:ln w="9360">
                <a:solidFill>
                  <a:srgbClr val="037f3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61960" y="1683000"/>
                <a:ext cx="21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6fd99"/>
                    </a:solidFill>
                    <a:latin typeface="Arial"/>
                  </a:rPr>
                  <a:t>三角形的构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395280" y="2604240"/>
              <a:ext cx="2518560" cy="424800"/>
              <a:chOff x="395280" y="2604240"/>
              <a:chExt cx="2518560" cy="424800"/>
            </a:xfrm>
          </p:grpSpPr>
          <p:sp>
            <p:nvSpPr>
              <p:cNvPr id="320" name=""/>
              <p:cNvSpPr/>
              <p:nvPr/>
            </p:nvSpPr>
            <p:spPr>
              <a:xfrm>
                <a:off x="395280" y="2604240"/>
                <a:ext cx="2183400" cy="424800"/>
              </a:xfrm>
              <a:prstGeom prst="ellipse">
                <a:avLst/>
              </a:prstGeom>
              <a:solidFill>
                <a:srgbClr val="037f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78440" y="2604240"/>
                <a:ext cx="2435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6fd99"/>
                    </a:solidFill>
                    <a:latin typeface="Arial"/>
                  </a:rPr>
                  <a:t>三角形的表示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1149120" y="1187640"/>
              <a:ext cx="588600" cy="3528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149120" y="2179440"/>
              <a:ext cx="588600" cy="3531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395280" y="3596400"/>
              <a:ext cx="2518560" cy="424440"/>
              <a:chOff x="395280" y="3596400"/>
              <a:chExt cx="2518560" cy="424440"/>
            </a:xfrm>
          </p:grpSpPr>
          <p:sp>
            <p:nvSpPr>
              <p:cNvPr id="325" name=""/>
              <p:cNvSpPr/>
              <p:nvPr/>
            </p:nvSpPr>
            <p:spPr>
              <a:xfrm>
                <a:off x="395280" y="3596400"/>
                <a:ext cx="2183400" cy="424440"/>
              </a:xfrm>
              <a:prstGeom prst="ellipse">
                <a:avLst/>
              </a:prstGeom>
              <a:solidFill>
                <a:srgbClr val="037f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78440" y="3596400"/>
                <a:ext cx="2435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6fd99"/>
                    </a:solidFill>
                    <a:latin typeface="Arial"/>
                  </a:rPr>
                  <a:t>三角形的分类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395280" y="4588560"/>
              <a:ext cx="2518560" cy="424440"/>
              <a:chOff x="395280" y="4588560"/>
              <a:chExt cx="2518560" cy="424440"/>
            </a:xfrm>
          </p:grpSpPr>
          <p:sp>
            <p:nvSpPr>
              <p:cNvPr id="328" name=""/>
              <p:cNvSpPr/>
              <p:nvPr/>
            </p:nvSpPr>
            <p:spPr>
              <a:xfrm>
                <a:off x="395280" y="4588560"/>
                <a:ext cx="2183400" cy="424440"/>
              </a:xfrm>
              <a:prstGeom prst="ellipse">
                <a:avLst/>
              </a:prstGeom>
              <a:solidFill>
                <a:srgbClr val="037f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78440" y="4588560"/>
                <a:ext cx="2435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6fd99"/>
                    </a:solidFill>
                    <a:latin typeface="Arial"/>
                  </a:rPr>
                  <a:t>三角形三边关系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0" name=""/>
            <p:cNvSpPr/>
            <p:nvPr/>
          </p:nvSpPr>
          <p:spPr>
            <a:xfrm>
              <a:off x="1153080" y="3101400"/>
              <a:ext cx="588600" cy="3528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153080" y="4163400"/>
              <a:ext cx="588600" cy="3531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-1330200" y="5805360"/>
            <a:ext cx="10870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5229360"/>
            <a:ext cx="921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注意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三角形的分类，要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确定分类标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等腰三角形中的求边长及周长问题要注意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分类讨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求三角形边长时，要用三边关系判断能否组成三角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700360" y="692280"/>
            <a:ext cx="1224000" cy="287280"/>
          </a:xfrm>
          <a:prstGeom prst="rightArrow">
            <a:avLst>
              <a:gd name="adj1" fmla="val 50000"/>
              <a:gd name="adj2" fmla="val 106516"/>
            </a:avLst>
          </a:prstGeom>
          <a:solidFill>
            <a:srgbClr val="ff00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700360" y="1773360"/>
            <a:ext cx="1152360" cy="287280"/>
          </a:xfrm>
          <a:prstGeom prst="rightArrow">
            <a:avLst>
              <a:gd name="adj1" fmla="val 50000"/>
              <a:gd name="adj2" fmla="val 100282"/>
            </a:avLst>
          </a:prstGeom>
          <a:solidFill>
            <a:srgbClr val="ff00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700360" y="2637000"/>
            <a:ext cx="1225440" cy="288720"/>
          </a:xfrm>
          <a:prstGeom prst="rightArrow">
            <a:avLst>
              <a:gd name="adj1" fmla="val 50000"/>
              <a:gd name="adj2" fmla="val 106110"/>
            </a:avLst>
          </a:prstGeom>
          <a:solidFill>
            <a:srgbClr val="ff00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211640" y="260280"/>
            <a:ext cx="3816360" cy="11912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三条线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不在同一直线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首尾顺次相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761360" y="1628640"/>
            <a:ext cx="50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边、角、顶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916360" y="2421000"/>
            <a:ext cx="370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“△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BC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700360" y="3645000"/>
            <a:ext cx="1224000" cy="287280"/>
          </a:xfrm>
          <a:prstGeom prst="rightArrow">
            <a:avLst>
              <a:gd name="adj1" fmla="val 50000"/>
              <a:gd name="adj2" fmla="val 106516"/>
            </a:avLst>
          </a:prstGeom>
          <a:solidFill>
            <a:srgbClr val="ff00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627280" y="4724280"/>
            <a:ext cx="1224000" cy="287280"/>
          </a:xfrm>
          <a:prstGeom prst="rightArrow">
            <a:avLst>
              <a:gd name="adj1" fmla="val 50000"/>
              <a:gd name="adj2" fmla="val 106516"/>
            </a:avLst>
          </a:prstGeom>
          <a:solidFill>
            <a:srgbClr val="ff00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995640" y="3284640"/>
            <a:ext cx="360360" cy="1079280"/>
          </a:xfrm>
          <a:custGeom>
            <a:avLst/>
            <a:gdLst>
              <a:gd name="textAreaLeft" fmla="*/ 230400 w 360360"/>
              <a:gd name="textAreaRight" fmla="*/ 360720 w 360360"/>
              <a:gd name="textAreaTop" fmla="*/ 28080 h 1079280"/>
              <a:gd name="textAreaBottom" fmla="*/ 105120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664160" y="3141720"/>
            <a:ext cx="1137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按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按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924360" y="4653000"/>
            <a:ext cx="47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三角形两边之和大于第三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268360" y="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8d"/>
                </a:solidFill>
                <a:latin typeface="Times New Roman"/>
                <a:ea typeface="华文行楷"/>
              </a:rPr>
              <a:t>知识梳理</a:t>
            </a:r>
            <a:r>
              <a:rPr b="1" lang="en-US" sz="3200" spc="-1" strike="noStrike">
                <a:solidFill>
                  <a:srgbClr val="11118d"/>
                </a:solidFill>
                <a:latin typeface="Times New Roman"/>
                <a:ea typeface="华文行楷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6360" y="27000"/>
            <a:ext cx="9144000" cy="6858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79280" y="1773360"/>
            <a:ext cx="4952880" cy="3809880"/>
            <a:chOff x="179280" y="1773360"/>
            <a:chExt cx="4952880" cy="3809880"/>
          </a:xfrm>
        </p:grpSpPr>
        <p:sp>
          <p:nvSpPr>
            <p:cNvPr id="46" name=""/>
            <p:cNvSpPr/>
            <p:nvPr/>
          </p:nvSpPr>
          <p:spPr>
            <a:xfrm>
              <a:off x="3913200" y="2459160"/>
              <a:ext cx="228600" cy="228600"/>
            </a:xfrm>
            <a:prstGeom prst="triangle">
              <a:avLst>
                <a:gd name="adj" fmla="val 50000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998800" y="1773360"/>
              <a:ext cx="1600200" cy="1447920"/>
            </a:xfrm>
            <a:prstGeom prst="triangle">
              <a:avLst>
                <a:gd name="adj" fmla="val 50000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456000" y="2459160"/>
              <a:ext cx="228600" cy="228600"/>
            </a:xfrm>
            <a:prstGeom prst="triangle">
              <a:avLst>
                <a:gd name="adj" fmla="val 50000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3074760" y="2001960"/>
              <a:ext cx="457200" cy="609480"/>
              <a:chOff x="3074760" y="2001960"/>
              <a:chExt cx="457200" cy="609480"/>
            </a:xfrm>
          </p:grpSpPr>
          <p:sp>
            <p:nvSpPr>
              <p:cNvPr id="50" name=""/>
              <p:cNvSpPr/>
              <p:nvPr/>
            </p:nvSpPr>
            <p:spPr>
              <a:xfrm>
                <a:off x="3074760" y="2001960"/>
                <a:ext cx="304920" cy="60948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3074760" y="2001960"/>
                <a:ext cx="457200" cy="30492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065480" y="2001960"/>
              <a:ext cx="457200" cy="609480"/>
              <a:chOff x="4065480" y="2001960"/>
              <a:chExt cx="457200" cy="609480"/>
            </a:xfrm>
          </p:grpSpPr>
          <p:sp>
            <p:nvSpPr>
              <p:cNvPr id="53" name=""/>
              <p:cNvSpPr/>
              <p:nvPr/>
            </p:nvSpPr>
            <p:spPr>
              <a:xfrm flipH="1">
                <a:off x="4217760" y="2001960"/>
                <a:ext cx="304920" cy="60948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flipH="1">
                <a:off x="4065480" y="2001960"/>
                <a:ext cx="457200" cy="30492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2465280" y="2764080"/>
              <a:ext cx="2666880" cy="2819160"/>
            </a:xfrm>
            <a:prstGeom prst="triangle">
              <a:avLst>
                <a:gd name="adj" fmla="val 50000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179280" y="3221280"/>
              <a:ext cx="4495680" cy="2361600"/>
              <a:chOff x="179280" y="3221280"/>
              <a:chExt cx="4495680" cy="2361600"/>
            </a:xfrm>
          </p:grpSpPr>
          <p:sp>
            <p:nvSpPr>
              <p:cNvPr id="57" name=""/>
              <p:cNvSpPr/>
              <p:nvPr/>
            </p:nvSpPr>
            <p:spPr>
              <a:xfrm>
                <a:off x="2922480" y="4821120"/>
                <a:ext cx="685800" cy="761760"/>
              </a:xfrm>
              <a:prstGeom prst="triangle">
                <a:avLst>
                  <a:gd name="adj" fmla="val 50000"/>
                </a:avLst>
              </a:prstGeom>
              <a:noFill/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989160" y="4821120"/>
                <a:ext cx="685800" cy="761760"/>
              </a:xfrm>
              <a:prstGeom prst="triangle">
                <a:avLst>
                  <a:gd name="adj" fmla="val 50000"/>
                </a:avLst>
              </a:prstGeom>
              <a:noFill/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" name=""/>
              <p:cNvGrpSpPr/>
              <p:nvPr/>
            </p:nvGrpSpPr>
            <p:grpSpPr>
              <a:xfrm>
                <a:off x="179280" y="4592520"/>
                <a:ext cx="2743200" cy="990360"/>
                <a:chOff x="179280" y="4592520"/>
                <a:chExt cx="2743200" cy="99036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179280" y="4592520"/>
                  <a:ext cx="2320920" cy="990360"/>
                </a:xfrm>
                <a:prstGeom prst="line">
                  <a:avLst/>
                </a:prstGeom>
                <a:ln w="763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179280" y="4592520"/>
                  <a:ext cx="2743200" cy="0"/>
                </a:xfrm>
                <a:prstGeom prst="line">
                  <a:avLst/>
                </a:prstGeom>
                <a:ln w="763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" name=""/>
              <p:cNvGrpSpPr/>
              <p:nvPr/>
            </p:nvGrpSpPr>
            <p:grpSpPr>
              <a:xfrm>
                <a:off x="179280" y="3525840"/>
                <a:ext cx="1143000" cy="1066320"/>
                <a:chOff x="179280" y="3525840"/>
                <a:chExt cx="1143000" cy="1066320"/>
              </a:xfrm>
            </p:grpSpPr>
            <p:sp>
              <p:nvSpPr>
                <p:cNvPr id="63" name=""/>
                <p:cNvSpPr/>
                <p:nvPr/>
              </p:nvSpPr>
              <p:spPr>
                <a:xfrm flipV="1">
                  <a:off x="179280" y="3525840"/>
                  <a:ext cx="1143000" cy="1066320"/>
                </a:xfrm>
                <a:prstGeom prst="line">
                  <a:avLst/>
                </a:prstGeom>
                <a:ln w="763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 flipH="1">
                  <a:off x="1093320" y="3525840"/>
                  <a:ext cx="228600" cy="1066320"/>
                </a:xfrm>
                <a:prstGeom prst="line">
                  <a:avLst/>
                </a:prstGeom>
                <a:ln w="763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" name=""/>
              <p:cNvGrpSpPr/>
              <p:nvPr/>
            </p:nvGrpSpPr>
            <p:grpSpPr>
              <a:xfrm>
                <a:off x="941400" y="3221280"/>
                <a:ext cx="380880" cy="685440"/>
                <a:chOff x="941400" y="3221280"/>
                <a:chExt cx="380880" cy="685440"/>
              </a:xfrm>
            </p:grpSpPr>
            <p:sp>
              <p:nvSpPr>
                <p:cNvPr id="66" name=""/>
                <p:cNvSpPr/>
                <p:nvPr/>
              </p:nvSpPr>
              <p:spPr>
                <a:xfrm flipH="1" flipV="1">
                  <a:off x="941400" y="3221280"/>
                  <a:ext cx="380880" cy="304560"/>
                </a:xfrm>
                <a:prstGeom prst="line">
                  <a:avLst/>
                </a:prstGeom>
                <a:ln w="763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941400" y="3221280"/>
                  <a:ext cx="0" cy="685440"/>
                </a:xfrm>
                <a:prstGeom prst="line">
                  <a:avLst/>
                </a:prstGeom>
                <a:ln w="763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8" name=""/>
          <p:cNvSpPr/>
          <p:nvPr/>
        </p:nvSpPr>
        <p:spPr>
          <a:xfrm rot="10800000">
            <a:off x="4788000" y="2133720"/>
            <a:ext cx="4176720" cy="358128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6078600" y="2486160"/>
            <a:ext cx="1552320" cy="2113920"/>
            <a:chOff x="6078600" y="2486160"/>
            <a:chExt cx="1552320" cy="2113920"/>
          </a:xfrm>
        </p:grpSpPr>
        <p:sp>
          <p:nvSpPr>
            <p:cNvPr id="70" name=""/>
            <p:cNvSpPr/>
            <p:nvPr/>
          </p:nvSpPr>
          <p:spPr>
            <a:xfrm>
              <a:off x="6078600" y="2486160"/>
              <a:ext cx="552960" cy="63072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6608880" y="4374720"/>
              <a:ext cx="552960" cy="22536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631560" y="3275640"/>
              <a:ext cx="555120" cy="788040"/>
            </a:xfrm>
            <a:prstGeom prst="triangle">
              <a:avLst>
                <a:gd name="adj" fmla="val 50000"/>
              </a:avLst>
            </a:prstGeom>
            <a:solidFill>
              <a:srgbClr val="ff99cc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077960" y="2503440"/>
              <a:ext cx="552960" cy="630720"/>
            </a:xfrm>
            <a:prstGeom prst="triangle">
              <a:avLst>
                <a:gd name="adj" fmla="val 50000"/>
              </a:avLst>
            </a:prstGeom>
            <a:solidFill>
              <a:srgbClr val="66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"/>
          <p:cNvSpPr txBox="1"/>
          <p:nvPr/>
        </p:nvSpPr>
        <p:spPr>
          <a:xfrm>
            <a:off x="539640" y="260280"/>
            <a:ext cx="4751640" cy="6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一、情境导入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27640" cy="35434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7162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0" y="3573360"/>
            <a:ext cx="4572000" cy="3284640"/>
          </a:xfrm>
          <a:prstGeom prst="rect">
            <a:avLst/>
          </a:prstGeom>
          <a:ln w="0">
            <a:noFill/>
          </a:ln>
        </p:spPr>
      </p:pic>
      <p:grpSp>
        <p:nvGrpSpPr>
          <p:cNvPr id="78" name=""/>
          <p:cNvGrpSpPr/>
          <p:nvPr/>
        </p:nvGrpSpPr>
        <p:grpSpPr>
          <a:xfrm>
            <a:off x="-19800" y="134640"/>
            <a:ext cx="3463200" cy="1257840"/>
            <a:chOff x="-19800" y="134640"/>
            <a:chExt cx="3463200" cy="1257840"/>
          </a:xfrm>
        </p:grpSpPr>
        <p:sp>
          <p:nvSpPr>
            <p:cNvPr id="79" name=""/>
            <p:cNvSpPr/>
            <p:nvPr/>
          </p:nvSpPr>
          <p:spPr>
            <a:xfrm>
              <a:off x="1203120" y="154440"/>
              <a:ext cx="2240280" cy="10771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-3960" y="1178640"/>
              <a:ext cx="3429720" cy="1814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-19800" y="134640"/>
              <a:ext cx="1226880" cy="12578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6011640" y="1916280"/>
            <a:ext cx="1008360" cy="1368360"/>
            <a:chOff x="6011640" y="1916280"/>
            <a:chExt cx="1008360" cy="1368360"/>
          </a:xfrm>
        </p:grpSpPr>
        <p:sp>
          <p:nvSpPr>
            <p:cNvPr id="83" name=""/>
            <p:cNvSpPr/>
            <p:nvPr/>
          </p:nvSpPr>
          <p:spPr>
            <a:xfrm flipH="1">
              <a:off x="6011640" y="1916280"/>
              <a:ext cx="865080" cy="28908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012000" y="2205360"/>
              <a:ext cx="1008000" cy="107928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877080" y="1916280"/>
              <a:ext cx="142920" cy="136836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250560" y="3716280"/>
            <a:ext cx="4105440" cy="1800360"/>
            <a:chOff x="250560" y="3716280"/>
            <a:chExt cx="4105440" cy="1800360"/>
          </a:xfrm>
        </p:grpSpPr>
        <p:sp>
          <p:nvSpPr>
            <p:cNvPr id="87" name=""/>
            <p:cNvSpPr/>
            <p:nvPr/>
          </p:nvSpPr>
          <p:spPr>
            <a:xfrm flipH="1">
              <a:off x="250560" y="3716280"/>
              <a:ext cx="1657080" cy="180036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250920" y="4005360"/>
              <a:ext cx="4105080" cy="151128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834920" y="3716280"/>
              <a:ext cx="2520720" cy="28908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4648320" y="3657600"/>
            <a:ext cx="4495680" cy="32004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 rot="10800000">
            <a:off x="6156000" y="4653000"/>
            <a:ext cx="1655640" cy="838080"/>
          </a:xfrm>
          <a:prstGeom prst="triangle">
            <a:avLst>
              <a:gd name="adj" fmla="val 38917"/>
            </a:avLst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50920" y="907920"/>
            <a:ext cx="88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辨一辨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下面是三根小棒摆成的图形，你认为哪些图形是三角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843280" y="189000"/>
            <a:ext cx="3816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二、探 究 新 知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249200" y="2276640"/>
            <a:ext cx="7244640" cy="3330000"/>
            <a:chOff x="1249200" y="2276640"/>
            <a:chExt cx="7244640" cy="3330000"/>
          </a:xfrm>
        </p:grpSpPr>
        <p:sp>
          <p:nvSpPr>
            <p:cNvPr id="95" name=""/>
            <p:cNvSpPr/>
            <p:nvPr/>
          </p:nvSpPr>
          <p:spPr>
            <a:xfrm>
              <a:off x="3370680" y="3213360"/>
              <a:ext cx="594720" cy="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596680" y="3213360"/>
              <a:ext cx="77364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586160" y="3213360"/>
              <a:ext cx="1011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249200" y="3213360"/>
              <a:ext cx="310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          B          C    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5120640" y="3837240"/>
              <a:ext cx="1764360" cy="1769040"/>
              <a:chOff x="5120640" y="3837240"/>
              <a:chExt cx="1764360" cy="1769040"/>
            </a:xfrm>
          </p:grpSpPr>
          <p:sp>
            <p:nvSpPr>
              <p:cNvPr id="100" name=""/>
              <p:cNvSpPr/>
              <p:nvPr/>
            </p:nvSpPr>
            <p:spPr>
              <a:xfrm flipV="1">
                <a:off x="5571360" y="4825440"/>
                <a:ext cx="1069920" cy="207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809680" y="4148640"/>
                <a:ext cx="831600" cy="6764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512320" y="4408920"/>
                <a:ext cx="59040" cy="62352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120640" y="420048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297760" y="508572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448320" y="487692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773680" y="383724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086600" y="3057480"/>
              <a:ext cx="746280" cy="4676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6405840" y="2640960"/>
              <a:ext cx="1251720" cy="883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424920" y="3529800"/>
              <a:ext cx="1823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558560" y="35251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620120" y="227664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251400" y="357696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96760" y="357696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605280" y="243360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4143960" y="2484000"/>
              <a:ext cx="1784520" cy="1404720"/>
              <a:chOff x="4143960" y="2484000"/>
              <a:chExt cx="1784520" cy="1404720"/>
            </a:xfrm>
          </p:grpSpPr>
          <p:sp>
            <p:nvSpPr>
              <p:cNvPr id="116" name=""/>
              <p:cNvSpPr/>
              <p:nvPr/>
            </p:nvSpPr>
            <p:spPr>
              <a:xfrm>
                <a:off x="4464720" y="2604240"/>
                <a:ext cx="1463760" cy="7624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4143960" y="3045600"/>
                <a:ext cx="1600920" cy="5616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4646880" y="2484000"/>
                <a:ext cx="91800" cy="14047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未知"/>
            <p:cNvSpPr/>
            <p:nvPr/>
          </p:nvSpPr>
          <p:spPr>
            <a:xfrm>
              <a:off x="2360160" y="4044960"/>
              <a:ext cx="1664640" cy="884160"/>
            </a:xfrm>
            <a:custGeom>
              <a:avLst/>
              <a:gdLst/>
              <a:ahLst/>
              <a:rect l="l" t="t" r="r" b="b"/>
              <a:pathLst>
                <a:path w="1270" h="771">
                  <a:moveTo>
                    <a:pt x="953" y="0"/>
                  </a:moveTo>
                  <a:lnTo>
                    <a:pt x="0" y="680"/>
                  </a:lnTo>
                  <a:lnTo>
                    <a:pt x="1270" y="771"/>
                  </a:lnTo>
                  <a:lnTo>
                    <a:pt x="953" y="0"/>
                  </a:lnTo>
                  <a:close/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011320" y="3660840"/>
              <a:ext cx="639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(1)                           (2)                       (3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812320" y="4961160"/>
              <a:ext cx="61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(4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896800" y="5086080"/>
              <a:ext cx="61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(5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395280" y="566100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说一说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什么叫三角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457200" y="12952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三角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533520" y="197820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由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不在同一直线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的三条线段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首尾顺次相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所组成的图形叫做三角形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457200" y="2965320"/>
            <a:ext cx="224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顶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2362320" y="3000240"/>
            <a:ext cx="635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用一个大写字母表示如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457200" y="3506760"/>
            <a:ext cx="188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1905120" y="3502080"/>
            <a:ext cx="4797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A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B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457200" y="4081320"/>
            <a:ext cx="35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角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（内角）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3505320" y="4059360"/>
            <a:ext cx="35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，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，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457200" y="460548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、三角形记作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AB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11"/>
          <p:cNvGrpSpPr/>
          <p:nvPr/>
        </p:nvGrpSpPr>
        <p:grpSpPr>
          <a:xfrm>
            <a:off x="5263920" y="244440"/>
            <a:ext cx="2435400" cy="1622520"/>
            <a:chOff x="5263920" y="244440"/>
            <a:chExt cx="2435400" cy="1622520"/>
          </a:xfrm>
        </p:grpSpPr>
        <p:sp>
          <p:nvSpPr>
            <p:cNvPr id="134" name="Line 12"/>
            <p:cNvSpPr/>
            <p:nvPr/>
          </p:nvSpPr>
          <p:spPr>
            <a:xfrm flipH="1">
              <a:off x="5263920" y="244440"/>
              <a:ext cx="618840" cy="162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3"/>
            <p:cNvSpPr/>
            <p:nvPr/>
          </p:nvSpPr>
          <p:spPr>
            <a:xfrm>
              <a:off x="5264280" y="1865160"/>
              <a:ext cx="2435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4"/>
            <p:cNvSpPr/>
            <p:nvPr/>
          </p:nvSpPr>
          <p:spPr>
            <a:xfrm flipH="1" flipV="1">
              <a:off x="5883120" y="244440"/>
              <a:ext cx="1815840" cy="162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Text Box 15"/>
          <p:cNvSpPr/>
          <p:nvPr/>
        </p:nvSpPr>
        <p:spPr>
          <a:xfrm>
            <a:off x="5477040" y="-3816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6"/>
          <p:cNvSpPr/>
          <p:nvPr/>
        </p:nvSpPr>
        <p:spPr>
          <a:xfrm>
            <a:off x="4929120" y="1681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7"/>
          <p:cNvSpPr/>
          <p:nvPr/>
        </p:nvSpPr>
        <p:spPr>
          <a:xfrm>
            <a:off x="7667640" y="163836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8"/>
          <p:cNvSpPr/>
          <p:nvPr/>
        </p:nvSpPr>
        <p:spPr>
          <a:xfrm>
            <a:off x="447840" y="5129280"/>
            <a:ext cx="86961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对角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：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对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9"/>
          <p:cNvSpPr/>
          <p:nvPr/>
        </p:nvSpPr>
        <p:spPr>
          <a:xfrm>
            <a:off x="468360" y="4762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三角形的相关概念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0"/>
          <p:cNvSpPr/>
          <p:nvPr/>
        </p:nvSpPr>
        <p:spPr>
          <a:xfrm>
            <a:off x="2268360" y="580536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的对边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BA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，通常简记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1"/>
          <p:cNvSpPr/>
          <p:nvPr/>
        </p:nvSpPr>
        <p:spPr>
          <a:xfrm>
            <a:off x="2268360" y="5162400"/>
            <a:ext cx="44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B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边的对角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611280" y="3645000"/>
            <a:ext cx="4031280" cy="2734920"/>
            <a:chOff x="611280" y="3645000"/>
            <a:chExt cx="4031280" cy="2734920"/>
          </a:xfrm>
        </p:grpSpPr>
        <p:grpSp>
          <p:nvGrpSpPr>
            <p:cNvPr id="145" name=""/>
            <p:cNvGrpSpPr/>
            <p:nvPr/>
          </p:nvGrpSpPr>
          <p:grpSpPr>
            <a:xfrm>
              <a:off x="1168200" y="3956760"/>
              <a:ext cx="2898000" cy="2175840"/>
              <a:chOff x="1168200" y="3956760"/>
              <a:chExt cx="2898000" cy="2175840"/>
            </a:xfrm>
          </p:grpSpPr>
          <p:grpSp>
            <p:nvGrpSpPr>
              <p:cNvPr id="146" name=""/>
              <p:cNvGrpSpPr/>
              <p:nvPr/>
            </p:nvGrpSpPr>
            <p:grpSpPr>
              <a:xfrm>
                <a:off x="1168200" y="4536360"/>
                <a:ext cx="2307600" cy="1596240"/>
                <a:chOff x="1168200" y="4536360"/>
                <a:chExt cx="2307600" cy="159624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1168200" y="4536720"/>
                  <a:ext cx="213840" cy="1595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1382040" y="6132600"/>
                  <a:ext cx="2093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 flipV="1">
                  <a:off x="1168200" y="4536360"/>
                  <a:ext cx="2307600" cy="1595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"/>
              <p:cNvSpPr/>
              <p:nvPr/>
            </p:nvSpPr>
            <p:spPr>
              <a:xfrm flipV="1">
                <a:off x="1382040" y="3956760"/>
                <a:ext cx="2683800" cy="2175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V="1">
                <a:off x="3475800" y="3956760"/>
                <a:ext cx="590400" cy="2175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611280" y="4172760"/>
              <a:ext cx="68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958200" y="3645000"/>
              <a:ext cx="68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368160" y="5798520"/>
              <a:ext cx="686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60040" y="5797080"/>
              <a:ext cx="690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05560" y="4685760"/>
              <a:ext cx="68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395280" y="1125360"/>
            <a:ext cx="90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图中有几个三角形？用符号表示这些三角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5280" y="1773360"/>
            <a:ext cx="91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边的三角形有哪些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5280" y="18900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幼圆"/>
              </a:rPr>
              <a:t>4.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幼圆"/>
              </a:rPr>
              <a:t>试一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5280" y="2349360"/>
            <a:ext cx="57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说出其中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BC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的三个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987280" y="-360"/>
            <a:ext cx="248436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5.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议一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0920" y="836640"/>
            <a:ext cx="882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你能给下面的三角形取个名字吗？如果让你对它们进行分类，你认为应该怎么分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26920" y="1989000"/>
            <a:ext cx="813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等腰三角形与等边三角形有什么共同之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752560" y="4984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5940360" y="3573360"/>
            <a:ext cx="2427840" cy="432000"/>
            <a:chOff x="5940360" y="3573360"/>
            <a:chExt cx="2427840" cy="432000"/>
          </a:xfrm>
        </p:grpSpPr>
        <p:sp>
          <p:nvSpPr>
            <p:cNvPr id="166" name=""/>
            <p:cNvSpPr/>
            <p:nvPr/>
          </p:nvSpPr>
          <p:spPr>
            <a:xfrm flipH="1">
              <a:off x="5940360" y="3573360"/>
              <a:ext cx="1104480" cy="43200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044840" y="3573360"/>
              <a:ext cx="1323000" cy="43200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940360" y="4005360"/>
              <a:ext cx="242784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3564000" y="2924280"/>
            <a:ext cx="1035000" cy="129672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611280" y="3284640"/>
            <a:ext cx="1800000" cy="1382760"/>
            <a:chOff x="611280" y="3284640"/>
            <a:chExt cx="1800000" cy="1382760"/>
          </a:xfrm>
        </p:grpSpPr>
        <p:sp>
          <p:nvSpPr>
            <p:cNvPr id="171" name=""/>
            <p:cNvSpPr/>
            <p:nvPr/>
          </p:nvSpPr>
          <p:spPr>
            <a:xfrm>
              <a:off x="1358640" y="414828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1280" y="3284640"/>
              <a:ext cx="1800000" cy="865080"/>
            </a:xfrm>
            <a:prstGeom prst="rtTriangle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11280" y="4005360"/>
              <a:ext cx="144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55280" y="4005360"/>
              <a:ext cx="0" cy="14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6948360" y="4508640"/>
            <a:ext cx="1368720" cy="1441440"/>
          </a:xfrm>
          <a:prstGeom prst="rtTriangl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948360" y="5805360"/>
            <a:ext cx="144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093080" y="580536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250280" y="4149720"/>
            <a:ext cx="62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                        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                   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88480" y="6093000"/>
            <a:ext cx="75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              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                  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                   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未知"/>
          <p:cNvSpPr/>
          <p:nvPr/>
        </p:nvSpPr>
        <p:spPr>
          <a:xfrm>
            <a:off x="4788000" y="4581360"/>
            <a:ext cx="1224000" cy="1727280"/>
          </a:xfrm>
          <a:custGeom>
            <a:avLst/>
            <a:gdLst/>
            <a:ahLst/>
            <a:rect l="l" t="t" r="r" b="b"/>
            <a:pathLst>
              <a:path w="1089" h="725">
                <a:moveTo>
                  <a:pt x="454" y="0"/>
                </a:moveTo>
                <a:lnTo>
                  <a:pt x="0" y="725"/>
                </a:lnTo>
                <a:lnTo>
                  <a:pt x="1089" y="272"/>
                </a:lnTo>
                <a:lnTo>
                  <a:pt x="454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39640" y="4869000"/>
            <a:ext cx="1224000" cy="105876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未知"/>
          <p:cNvSpPr/>
          <p:nvPr/>
        </p:nvSpPr>
        <p:spPr>
          <a:xfrm>
            <a:off x="2484360" y="4869000"/>
            <a:ext cx="1295640" cy="1081080"/>
          </a:xfrm>
          <a:custGeom>
            <a:avLst/>
            <a:gdLst/>
            <a:ahLst/>
            <a:rect l="l" t="t" r="r" b="b"/>
            <a:pathLst>
              <a:path w="816" h="681">
                <a:moveTo>
                  <a:pt x="635" y="0"/>
                </a:moveTo>
                <a:lnTo>
                  <a:pt x="0" y="681"/>
                </a:lnTo>
                <a:lnTo>
                  <a:pt x="816" y="681"/>
                </a:lnTo>
                <a:lnTo>
                  <a:pt x="635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755640" y="907920"/>
            <a:ext cx="4306320" cy="2179800"/>
            <a:chOff x="755640" y="907920"/>
            <a:chExt cx="4306320" cy="2179800"/>
          </a:xfrm>
        </p:grpSpPr>
        <p:sp>
          <p:nvSpPr>
            <p:cNvPr id="184" name=""/>
            <p:cNvSpPr/>
            <p:nvPr/>
          </p:nvSpPr>
          <p:spPr>
            <a:xfrm>
              <a:off x="755640" y="1704600"/>
              <a:ext cx="1586160" cy="5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341800" y="907920"/>
              <a:ext cx="2153160" cy="39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456640" y="1023120"/>
              <a:ext cx="2605320" cy="206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cc"/>
                  </a:solidFill>
                  <a:latin typeface="Arial"/>
                </a:rPr>
                <a:t>直角三角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cc"/>
                  </a:solidFill>
                  <a:latin typeface="Arial"/>
                </a:rPr>
                <a:t>锐角三角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cc"/>
                  </a:solidFill>
                  <a:latin typeface="Arial"/>
                </a:rPr>
                <a:t>钝角三角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456640" y="1248840"/>
              <a:ext cx="111960" cy="1591200"/>
            </a:xfrm>
            <a:custGeom>
              <a:avLst/>
              <a:gdLst>
                <a:gd name="textAreaLeft" fmla="*/ 71640 w 111960"/>
                <a:gd name="textAreaRight" fmla="*/ 112320 w 111960"/>
                <a:gd name="textAreaTop" fmla="*/ 41400 h 1591200"/>
                <a:gd name="textAreaBottom" fmla="*/ 1549800 h 1591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116800" y="1933200"/>
              <a:ext cx="339840" cy="225000"/>
            </a:xfrm>
            <a:prstGeom prst="rightArrow">
              <a:avLst>
                <a:gd name="adj1" fmla="val 50000"/>
                <a:gd name="adj2" fmla="val 37760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50920" y="26028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6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记一记：三角形的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508720" y="331920"/>
            <a:ext cx="1511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357800" y="6670800"/>
            <a:ext cx="2952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763640" y="3500280"/>
            <a:ext cx="2325600" cy="1960560"/>
            <a:chOff x="1763640" y="3500280"/>
            <a:chExt cx="2325600" cy="1960560"/>
          </a:xfrm>
        </p:grpSpPr>
        <p:sp>
          <p:nvSpPr>
            <p:cNvPr id="193" name=""/>
            <p:cNvSpPr/>
            <p:nvPr/>
          </p:nvSpPr>
          <p:spPr>
            <a:xfrm>
              <a:off x="2050920" y="3787560"/>
              <a:ext cx="216000" cy="136548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35280 h 1365480"/>
                <a:gd name="textAreaBottom" fmla="*/ 1330200 h 136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763640" y="4363920"/>
              <a:ext cx="216000" cy="2160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628360" y="35002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不等边三角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699640" y="494028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等腰三角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10578600" y="15573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324000" y="1700280"/>
            <a:ext cx="2286000" cy="2968560"/>
            <a:chOff x="324000" y="1700280"/>
            <a:chExt cx="2286000" cy="2968560"/>
          </a:xfrm>
        </p:grpSpPr>
        <p:grpSp>
          <p:nvGrpSpPr>
            <p:cNvPr id="199" name=""/>
            <p:cNvGrpSpPr/>
            <p:nvPr/>
          </p:nvGrpSpPr>
          <p:grpSpPr>
            <a:xfrm>
              <a:off x="324000" y="1700280"/>
              <a:ext cx="2286000" cy="2968560"/>
              <a:chOff x="324000" y="1700280"/>
              <a:chExt cx="2286000" cy="2968560"/>
            </a:xfrm>
          </p:grpSpPr>
          <p:sp>
            <p:nvSpPr>
              <p:cNvPr id="200" name=""/>
              <p:cNvSpPr/>
              <p:nvPr/>
            </p:nvSpPr>
            <p:spPr>
              <a:xfrm>
                <a:off x="324000" y="1700280"/>
                <a:ext cx="22860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03280" y="4148280"/>
                <a:ext cx="172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cc"/>
                    </a:solidFill>
                    <a:latin typeface="Arial"/>
                  </a:rPr>
                  <a:t>按</a:t>
                </a:r>
                <a:r>
                  <a:rPr b="1" lang="zh-CN" sz="2800" spc="-1" strike="noStrike">
                    <a:solidFill>
                      <a:srgbClr val="ff0000"/>
                    </a:solidFill>
                    <a:latin typeface="Arial"/>
                  </a:rPr>
                  <a:t>边</a:t>
                </a:r>
                <a:r>
                  <a:rPr b="1" lang="zh-CN" sz="2800" spc="-1" strike="noStrike">
                    <a:solidFill>
                      <a:srgbClr val="0000cc"/>
                    </a:solidFill>
                    <a:latin typeface="Arial"/>
                  </a:rPr>
                  <a:t>分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790200" y="1771560"/>
              <a:ext cx="821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按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角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4427640" y="4005360"/>
            <a:ext cx="4031640" cy="2122560"/>
            <a:chOff x="4427640" y="4005360"/>
            <a:chExt cx="4031640" cy="2122560"/>
          </a:xfrm>
        </p:grpSpPr>
        <p:sp>
          <p:nvSpPr>
            <p:cNvPr id="204" name=""/>
            <p:cNvSpPr/>
            <p:nvPr/>
          </p:nvSpPr>
          <p:spPr>
            <a:xfrm>
              <a:off x="4427640" y="4270680"/>
              <a:ext cx="194400" cy="1593360"/>
            </a:xfrm>
            <a:custGeom>
              <a:avLst/>
              <a:gdLst>
                <a:gd name="textAreaLeft" fmla="*/ 124200 w 194400"/>
                <a:gd name="textAreaRight" fmla="*/ 194760 w 194400"/>
                <a:gd name="textAreaTop" fmla="*/ 41400 h 1593360"/>
                <a:gd name="textAreaBottom" fmla="*/ 1551960 h 159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18880" y="4005360"/>
              <a:ext cx="3740400" cy="12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底边和腰不相等的等腰三角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                   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436720" y="554652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等边三角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402280" y="2602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三角形的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324000" y="620640"/>
            <a:ext cx="9848160" cy="3086280"/>
            <a:chOff x="324000" y="620640"/>
            <a:chExt cx="9848160" cy="3086280"/>
          </a:xfrm>
        </p:grpSpPr>
        <p:grpSp>
          <p:nvGrpSpPr>
            <p:cNvPr id="209" name=""/>
            <p:cNvGrpSpPr/>
            <p:nvPr/>
          </p:nvGrpSpPr>
          <p:grpSpPr>
            <a:xfrm>
              <a:off x="3555000" y="1190520"/>
              <a:ext cx="5053680" cy="2516400"/>
              <a:chOff x="3555000" y="1190520"/>
              <a:chExt cx="5053680" cy="2516400"/>
            </a:xfrm>
          </p:grpSpPr>
          <p:sp>
            <p:nvSpPr>
              <p:cNvPr id="210" name=""/>
              <p:cNvSpPr/>
              <p:nvPr/>
            </p:nvSpPr>
            <p:spPr>
              <a:xfrm>
                <a:off x="3555000" y="1190520"/>
                <a:ext cx="5053680" cy="2516400"/>
              </a:xfrm>
              <a:prstGeom prst="ellipse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081840" y="1190520"/>
                <a:ext cx="0" cy="1210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>
                <a:off x="3749400" y="2400840"/>
                <a:ext cx="2333880" cy="581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081840" y="2400840"/>
                <a:ext cx="2237400" cy="629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>
              <a:off x="324000" y="620640"/>
              <a:ext cx="183960" cy="36684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079240" y="2487600"/>
              <a:ext cx="5092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钝角三角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56400" y="1911240"/>
              <a:ext cx="235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直角三角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281640" y="1838160"/>
              <a:ext cx="242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锐角三角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734760" y="2225520"/>
            <a:ext cx="11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按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角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95640" y="2637000"/>
            <a:ext cx="12240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63480" y="4941720"/>
            <a:ext cx="11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按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边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124000" y="5445000"/>
            <a:ext cx="12240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419640" y="4143240"/>
            <a:ext cx="5256000" cy="251640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084720" y="4149720"/>
            <a:ext cx="16200" cy="2525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03280" y="3573360"/>
            <a:ext cx="184320" cy="3668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141440" y="522936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不等边三角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372360" y="5445000"/>
            <a:ext cx="1439640" cy="865440"/>
          </a:xfrm>
          <a:prstGeom prst="ellipse">
            <a:avLst/>
          </a:prstGeom>
          <a:solidFill>
            <a:srgbClr val="00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678000" y="57340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等边三角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517440" y="47768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等腰三角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1T06:01:02Z</dcterms:created>
  <dc:creator>q</dc:creator>
  <dc:description/>
  <cp:keywords/>
  <dc:language>en-US</dc:language>
  <cp:lastModifiedBy>考生</cp:lastModifiedBy>
  <dcterms:modified xsi:type="dcterms:W3CDTF">2013-08-25T09:47:14Z</dcterms:modified>
  <cp:revision>15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